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893-BCF1-4A08-98F0-E2BD6AD9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38D-8701-43FD-A7ED-4A753AB0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1B3-7A11-46FC-AAA7-CC42F20C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3F73-D225-403D-AF2F-1D81016D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6FB-0B89-4ED9-91AD-E3FC180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FD3D-D555-4851-A376-A5068383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BB7-B61F-400D-B973-CE317703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F12-B469-4B50-B960-BB43A319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548-2E91-4550-B2CE-8C42136F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206-3F87-4D64-BA39-9121DE60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7E2-341D-4EAC-A45A-5881F5FD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75D-DD95-4E8C-ACC7-6002114D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F7CB-13E7-46B3-9584-C2FDCE980B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st Participle used as Object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body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ought the battle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ith my watch l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 didn’t know what time it w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und two of the windows brok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nted their buildings construc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way to look unna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onl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anted traditional materials u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is to B what C is to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言正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29840" y="319932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to them what fish is to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ertain 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ertain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 certain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certain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ust be some mis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emember reading about him in some magaz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60280"/>
            <a:ext cx="784692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d prefe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refer something tha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d rather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 like is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interested in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feel happy i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stand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get very excited abou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9-06T15:10:21Z</dcterms:modified>
  <cp:revision>2</cp:revision>
  <dc:subject/>
  <dc:title>PowerPoint Presentation</dc:title>
</cp:coreProperties>
</file>